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73C-876F-4E22-9023-056786B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F89-3D59-4DAF-AE33-95345DD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091-93B0-4E3E-B7DE-9D2AEC4C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85B-55F6-457E-97F8-D5BF1DBB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6C0-A008-4EAC-A1B2-6F39938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C46-D814-483E-8979-33A72F47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3CD-B469-4FA4-97D8-2D5C8399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CA9-C9A3-49CC-8D58-155CA8F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562-E7F0-49AB-BA6C-4D89E179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309-BBF0-41F6-9133-F88EADB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1AC-3F6E-470F-A331-EB4B079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83F-D794-4C86-AE34-380931B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643-BF08-4FE0-B9F3-01B7F9CC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43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What is epidemi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verview of epi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Sydney Beach Users Study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ntroduction to ActivE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648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7640" y="18288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5909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LEARNER-INTERACTIVE COURS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fa62a"/>
                </a:solidFill>
                <a:latin typeface="Arial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3120" y="167652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10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VID G. KLEINBAUM- AUTH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TA DESCRIPTION (Ithaca, NY)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MEDIA 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SPRINGER-VERLAG- PUBLIS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ourse outline covers topics in most      intro epi text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hapter Topic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(e.g., Measures of Effect, Confounding)</a:t>
            </a: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480" y="1143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Video and/or Animated Ex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Narrated Instructional Exposition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Study and/or Multiple-Choice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Interactively-designed Short Quizz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Computer Exercis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Linkage to World Wide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720" y="152388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LESSON COMPONENTS (“ACTIVITI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543800" cy="2226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c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test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planatory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Variables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200" y="1676520"/>
            <a:ext cx="7511040" cy="224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8a4b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estimate disease frequency and time tre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generate etiologic hypothes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solidFill>
            <a:srgbClr val="eeb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56840" y="2300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Times New Roman"/>
              </a:rPr>
              <a:t>Key Challenges in etiologic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ISSUES IN EPI ?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1800" y="3032280"/>
            <a:ext cx="36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= exposur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6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8dc6ff"/>
                </a:solidFill>
                <a:latin typeface="Times New Roman"/>
              </a:rPr>
              <a:t> = contro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2895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11ae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28Z</dcterms:modified>
  <cp:revision>103</cp:revision>
  <dc:subject/>
  <dc:title>The Art in the State of the Art</dc:title>
</cp:coreProperties>
</file>